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6B45B-0DFF-422A-B98D-D6B94575D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4D683-F1D7-49CB-A52E-FEECCA8C4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/informal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ademic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0FBC1-6410-49AA-A579-92FD2E23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A7E-8685-4570-ABA6-B2A0663A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785-4531-4B34-A03D-F98A4D9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905-E501-443D-9A5A-303A471A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F00-C300-4965-BC21-DFB03EF5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F92-09F5-4D95-8EEF-9BFF9FBE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FC9F-B977-4C17-B95E-6462E950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2D81-2CE6-47E1-B718-8F013496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6691-75DB-4984-B279-5701DAEA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741D-E629-4A17-83DE-BA784EE8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455-D969-4C48-9965-2EE9F2A7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CAF-7018-4C09-98D5-33E8520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56A-AD16-4757-8B3C-398BA44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5C9-976E-46D1-A5E5-662D226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C61A-3B9F-4363-B142-DEF585D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8A7-DFB2-4841-B9CD-68E334A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445C-411B-4039-AD99-1CBAEE12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CB79-7D5D-4D52-A5DE-272EB2EC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851E-7475-4CC2-AA77-09935438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2472-7A11-48C2-9939-7590FBE4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40AF-FD12-4517-9ADB-EF6D5E53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6A0D-AECF-4517-B3BD-36CB455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A67F-AFD4-4A41-A2B9-EBDBEE04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BEC-F4C8-4CF4-9EFA-44DCBE2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8BD3-B0ED-4A75-A090-C9646B3C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B597-56FF-4AA1-92EF-1A6AC26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3D27-8C1D-4BC7-91EF-CEF946A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3106-9A13-49D3-AE92-769B464A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6DAE-9F3A-4D6C-A88E-FABE757B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4548-4BB6-4143-8EEC-2503D3D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F56A-BE27-41EB-999D-61D2AA87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012-E363-4CBC-AE78-2CCE2F6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A58-C074-47B0-BEA4-93AEA636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B44-CD64-4FDA-ADFF-4DB1AF8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977-3456-4E9A-8174-511CFB4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B2F-21C3-43B8-936A-B2689DA8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FCC-CEFD-43E6-8567-81CA5A3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07510-941B-4365-AED4-D8CF3C9E6D8D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1A090-1B55-4B66-9A91-B4F205F4B90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19" descr="iNACOLrgb-color with words.jpg"/>
          <p:cNvPicPr/>
          <p:nvPr/>
        </p:nvPicPr>
        <p:blipFill>
          <a:blip r:embed="rId2"/>
          <a:stretch/>
        </p:blipFill>
        <p:spPr>
          <a:xfrm>
            <a:off x="7010280" y="6248520"/>
            <a:ext cx="2057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iNACOLrgb-color with words.jpg"/>
          <p:cNvPicPr/>
          <p:nvPr/>
        </p:nvPicPr>
        <p:blipFill>
          <a:blip r:embed="rId2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6D18D-2E9F-4A04-B8B5-5461F815C013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8220C-D3F5-4B30-93AD-EC0C71673AD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iNACOLrgb-color with words.jpg"/>
          <p:cNvPicPr/>
          <p:nvPr/>
        </p:nvPicPr>
        <p:blipFill>
          <a:blip r:embed="rId2"/>
          <a:stretch/>
        </p:blipFill>
        <p:spPr>
          <a:xfrm>
            <a:off x="7010280" y="6248520"/>
            <a:ext cx="2057400" cy="55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D069F-45A5-44F0-9FB0-77857F893046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8D66D-9CCD-4237-ABBD-A47C947AC37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n Exploration of At-Risk Learners and Online Education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Michael Barbour, Wayne State Un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Leanna Archambault, Arizona State Un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Daryl Diamond, Broward County Schools (Florid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Cathy Cavanaugh, University of Flor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2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trategies for Working with 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“At-Risk”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of Supportive Faculty/Sta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vidualizing Instr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al Philosophy/Strate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Use of Supportive Faculty and Staff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for ongoing communication and support from teachers, learning coaches, counselors, tutors, and special education coordinato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ulty/staff who take a direct role in overseeing student progress and success throughout the online p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ndividualizing Instruction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ximizing the use of technology/curriculum to individualize instr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Using one-to-one and small group direct instruction to remediate key concept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Online curricula such as My Reading Coach and Lexia as helpful for addressing problems of comprehension and fluency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Trebuchet MS"/>
              </a:rPr>
              <a:t>Instructional Strategies</a:t>
            </a:r>
            <a:endParaRPr b="0" lang="en-US" sz="3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stery learning to ensure student suc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Classic pedagogical approach that focuses on learning rather than performance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Students can revise their work based on specific feedback until they meet the targeted outcome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Online classes offer flexibility to students who need expanded learning time to master complex content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Trebuchet MS"/>
              </a:rPr>
              <a:t>Suggested School Level Interventions</a:t>
            </a:r>
            <a:endParaRPr b="0" lang="en-US" sz="3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1920" y="18288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communication between teachers/mentors/learning coaches and students/famil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Direct communications with students and families to explain program benefits and responsibilitie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Specific clarification so that students understand expectation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More teacher-student contact to support struggling student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Accountability to ensure communication occur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rebuchet MS"/>
              </a:rPr>
              <a:t>Suggested School Level Interventions</a:t>
            </a:r>
            <a:endParaRPr b="0" lang="en-US" sz="33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800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students who may be at-risk as early as possible to ensure that they receive the necessary attention and support needed for their suc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800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ility to implement strategies from the on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ccessful Results for Program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class completion from students who were not successful in face-to-fa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graduation r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s attr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oser ties between students and teachers/sch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mplications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2388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for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Professional development for virtual teachers, tutors, facilitators, counselors, and other school support staff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Improvement of comprehensive data systems to inform and guide teaching practice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Increased accessibility to online classe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Research focused on learning environments that support at-risk student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dentified Trends and Instructional Practices for At-Risk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ing Mentoring and Tuto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Data to Evaluate Student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reen, Identify and Evaluate At-Risk Fac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al Pract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ntroduction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Michael Barbo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Wayne State Un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Mentoring and Tutoring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05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entors, supervising teacher, and school counselor; in addition to class teac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aborative team effort regularly checking on student’s prog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ine individual tuto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e-based tutoring ses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ademic coa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ine extra curricular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Does your online school utilize a screening process to identify at-risk students?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grpSp>
        <p:nvGrpSpPr>
          <p:cNvPr id="213" name="Group 17"/>
          <p:cNvGrpSpPr/>
          <p:nvPr/>
        </p:nvGrpSpPr>
        <p:grpSpPr>
          <a:xfrm>
            <a:off x="1447920" y="3206520"/>
            <a:ext cx="1438200" cy="570240"/>
            <a:chOff x="1447920" y="3206520"/>
            <a:chExt cx="1438200" cy="570240"/>
          </a:xfrm>
        </p:grpSpPr>
        <p:grpSp>
          <p:nvGrpSpPr>
            <p:cNvPr id="214" name="Group 15"/>
            <p:cNvGrpSpPr/>
            <p:nvPr/>
          </p:nvGrpSpPr>
          <p:grpSpPr>
            <a:xfrm>
              <a:off x="1447920" y="3206520"/>
              <a:ext cx="350280" cy="570240"/>
              <a:chOff x="1447920" y="3206520"/>
              <a:chExt cx="350280" cy="570240"/>
            </a:xfrm>
          </p:grpSpPr>
          <p:sp>
            <p:nvSpPr>
              <p:cNvPr id="215" name="Line 7"/>
              <p:cNvSpPr/>
              <p:nvPr/>
            </p:nvSpPr>
            <p:spPr>
              <a:xfrm>
                <a:off x="1447920" y="3586680"/>
                <a:ext cx="140040" cy="1900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"/>
              <p:cNvSpPr/>
              <p:nvPr/>
            </p:nvSpPr>
            <p:spPr>
              <a:xfrm flipV="1">
                <a:off x="1587960" y="3206520"/>
                <a:ext cx="210240" cy="5698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13"/>
            <p:cNvSpPr/>
            <p:nvPr/>
          </p:nvSpPr>
          <p:spPr>
            <a:xfrm>
              <a:off x="2092680" y="32382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8"/>
          <p:cNvGrpSpPr/>
          <p:nvPr/>
        </p:nvGrpSpPr>
        <p:grpSpPr>
          <a:xfrm>
            <a:off x="1447920" y="4637160"/>
            <a:ext cx="1389240" cy="545760"/>
            <a:chOff x="1447920" y="4637160"/>
            <a:chExt cx="1389240" cy="545760"/>
          </a:xfrm>
        </p:grpSpPr>
        <p:grpSp>
          <p:nvGrpSpPr>
            <p:cNvPr id="219" name="Group 16"/>
            <p:cNvGrpSpPr/>
            <p:nvPr/>
          </p:nvGrpSpPr>
          <p:grpSpPr>
            <a:xfrm>
              <a:off x="1447920" y="4637160"/>
              <a:ext cx="457200" cy="380880"/>
              <a:chOff x="1447920" y="4637160"/>
              <a:chExt cx="457200" cy="380880"/>
            </a:xfrm>
          </p:grpSpPr>
          <p:sp>
            <p:nvSpPr>
              <p:cNvPr id="220" name="Line 9"/>
              <p:cNvSpPr/>
              <p:nvPr/>
            </p:nvSpPr>
            <p:spPr>
              <a:xfrm>
                <a:off x="1524240" y="4637160"/>
                <a:ext cx="30456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"/>
              <p:cNvSpPr/>
              <p:nvPr/>
            </p:nvSpPr>
            <p:spPr>
              <a:xfrm flipV="1">
                <a:off x="1447920" y="4637160"/>
                <a:ext cx="45720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14"/>
            <p:cNvSpPr/>
            <p:nvPr/>
          </p:nvSpPr>
          <p:spPr>
            <a:xfrm>
              <a:off x="2202120" y="46623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Pre-Screening and Continual Screening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exile Framework for Reading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Using Lexile scores with each student upon entering the online sch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earning and Study Strategies Inventory (LASSI)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signed to gather information about students’ learning and study practices and attitud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Response to Intervention (RtI)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 3- tiered intervention approach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dentifying At-Risk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rollment questionnai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refer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cal school registration for students retaking cour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ommendation from school distric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ake intervie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ultation with parents and school personn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red-flag process including: attendance, progress, academic testing performance, IEP status on appl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going modifications done depending on the level of student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vention specialist sent to work with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nstructional Practice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9072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nchronous  learning activ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b conferenc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datory face-to-face meetings between teacher and stu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work on a reduced number of courses taken at one ti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 assistance program coordinated by counselors and teach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team member assigned to monitor work and facilitate solu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smaller pieces of assignments- “chunking” the 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ing flexible setting and time to complete assign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nting extensions when nee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ilding computer literacy ski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mmary: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716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 contrast between what is required to be successful in an online course and the traits most at-risk students poss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 definite need to develop specific programs within virtual schools that cater to non-traditional distance learning student and at-risk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out these supports, the promise of virtual schooling providing access to high quality educational opportunities will be out of reach for many at-risk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nitiatives and Resources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33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ccessful At-risk and ESE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acher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o understand their needs and use strategies to differenti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urse and program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uctures that provide flexibility, time, and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choo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s to fill academic and other g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efit from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C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5Csdroppingout.jpg"/>
          <p:cNvPicPr/>
          <p:nvPr/>
        </p:nvPicPr>
        <p:blipFill>
          <a:blip r:embed="rId1"/>
          <a:srcRect l="-21362" t="0" r="-21362" b="0"/>
          <a:stretch/>
        </p:blipFill>
        <p:spPr>
          <a:xfrm>
            <a:off x="-1981080" y="836640"/>
            <a:ext cx="1311408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onnect practices in virtual schools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ior seminar course to help students in goal-setting and planning for life after high school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aring students for success in a technology-based economy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phasizing life skills and work readines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nering with community organizations to provide trade skills to studen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The Issues Brief Proces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ication of a topic that the research committee feels needs further investig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the relevant liter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ion of data or individual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ption of the data in a broad mann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mate practices in virtual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safety and resp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ekly data reports to guide teachers in their student meetings, interventions, and contrac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eam approach that includes instructional coaches and intervention teac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group intervention classes or one-to-one interventions, based on each student’s academic dat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ontrol practices in virtual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reasing absence, truancy and other behavioral issues by identifying causes of these issues and developing action plans to correct the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sponse to Intervention program and a life skills program to meet behavioral and emotional needs of studen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urriculum practices in virtual schools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ing students to provide specific skills and strategies for academic success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ing differentiated scaffolds for each student, monitored by a teacher-mentor, and supported by an orientation in time management and task prioritiz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Trebuchet MS"/>
              </a:rPr>
              <a:t>Caring Community practices in virtual schools</a:t>
            </a:r>
            <a:endParaRPr b="0" lang="en-US" sz="3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toring for student succ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communication between teachers,  students and parents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icies to ensure regular, proactive communic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Helping Teacher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alists in at-risk student transition, ESE, and online learning are developing an online professional development course for online teachers who have at-risk and ESE students in their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D course addresses strategies specific to each student group and their success in learning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Helping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alists in at-risk student transition, ESE, and online learning are developing an online orientation course for at-risk and ESE students who are new to online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rientation course addresses strategies specific to learning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reas For Future Research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lore how the identification of at-risk students affects the attrition and course completion rates in virtual schools and what measures virtual schools take once a student has been identified as being at-ri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the assessment and prediction tools, models, and instruments used to remediate students’ knowledge, skills and abilities to enable success in the online environ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reas For Future Research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0932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specific design and delivery models of virtual schooling that have empirical evidence of improving completion and attrition rates with at-risk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the factors that facilitate high levels of student engagement and contribute to the development of a positive learning community in virtual school environm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Resource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76520"/>
            <a:ext cx="82296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ACOL Research Committee Issues Brief: An Exploration of At-Risk Learners and Online Educ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omising Practices in Online Learning: Using Online Learning for At-Risk Students and Credit Recove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ccess and Equity in Online Classes and Virtual Schoo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ropout risk factors and exemplary programs: A technical report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xceptional learners: differentiated instruction online,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What Works in K-12 Online Learning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ISTE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Trebuchet MS"/>
              </a:rPr>
              <a:t>Questions?</a:t>
            </a:r>
            <a:endParaRPr b="0" lang="en-US" sz="7200" spc="-1" strike="noStrike">
              <a:solidFill>
                <a:srgbClr val="1f497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What This Brief Isn’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et of best pract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oad map for how other virtual schools should address at-risk learn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liable and valid research stu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peaker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anna Archambault – leanna.archambault@asu.edu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ichael Barbour – mkbarbour@gmail.com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thy Cavanaugh – cathycavanaugh@coe.fl.edu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ryl Diamond – daryl.diamond@browardschools.c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What This Brief I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initial exploration of how virtual schools are focusing on at-risk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 data collected by the research committee on what individual virtual schools believe to be effective in dealing with at-risk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tarting point for future investig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ing with At-Risk Student Populations in Online Environments: An Exploration of Strategies, Experiences, and Recommendation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rends and Instructional Practices for Teaching At-Risk Students in K-12 Online Programs: An Exploration of Teaching Practices, Instructional Strategies, and Online Design and Delivery Metho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itiatives and Resour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582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orking with At-Risk Student Populations in Online Environments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Leanna Archambaul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Arizona State Un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Trebuchet MS"/>
              </a:rPr>
              <a:t>Definition of “At-Risk”</a:t>
            </a:r>
            <a:endParaRPr b="0" lang="en-US" sz="3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47560"/>
            <a:ext cx="82296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cadem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Lack of progress/struggling to keep up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High absenteeism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Not meeting grade level requirements/risk of dropping out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al/Fami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Special need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Racial/ethnic minority groups (may be proxy for low SES)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Behavior issue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English as a second language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Frequent moves/transiency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Teen pregnancy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Absentee parent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Brief Methodology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Web-based survey instrument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spcAft>
                <a:spcPts val="601"/>
              </a:spcAft>
              <a:buClr>
                <a:srgbClr val="4f81b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Georgia"/>
              </a:rPr>
              <a:t>Open ended items regarding interventions, strategies, policies, recommendations, experiences, challenges</a:t>
            </a:r>
            <a:endParaRPr b="0" lang="en-US" sz="2400" spc="-1" strike="noStrike">
              <a:solidFill>
                <a:srgbClr val="4f81b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Distributed to iNACOL virtual programs via email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Responses reflect 22 different programs, primarily cyber-charter schools, from 14 states and British Columbia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3:46:42Z</dcterms:created>
  <dc:creator>Allison Powell</dc:creator>
  <dc:description/>
  <dc:language>en-US</dc:language>
  <cp:lastModifiedBy>Leanna Archambault</cp:lastModifiedBy>
  <dcterms:modified xsi:type="dcterms:W3CDTF">2010-11-14T00:07:54Z</dcterms:modified>
  <cp:revision>20</cp:revision>
  <dc:subject/>
  <dc:title>Slide 1</dc:title>
</cp:coreProperties>
</file>